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396995"/>
        <c:axId val="70262442"/>
      </c:barChart>
      <c:catAx>
        <c:axId val="763969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262442"/>
        <c:crosses val="autoZero"/>
        <c:auto val="1"/>
        <c:lblAlgn val="ctr"/>
        <c:lblOffset val="100"/>
        <c:noMultiLvlLbl val="0"/>
      </c:catAx>
      <c:valAx>
        <c:axId val="702624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3969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AA06-006B-4D42-9389-B394B45F7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8AF7-5867-4BF3-ABD1-1C75776BF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9C01-8642-4CA7-8836-28343465A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67FD-F283-44EB-A31C-A4B697CD6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F330-4E4A-42EC-8987-3BB648282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4ACE-7BAE-4AE9-9FE3-2B794DECE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53F5-AE09-45CE-9E22-C0216BDD5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1024-0F7F-4FA6-94AE-9DDAD6A97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EA67-F25F-43CF-8AE3-0C0C00DA5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2583-FE2B-46F0-B53D-8EB456DE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7834-774B-4FEA-9DF7-8CCF1429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76AB-6BD8-4650-B9D4-282AFE06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E30D98-4604-4E31-96B3-263D55BD93E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