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30603"/>
        <c:axId val="55093008"/>
      </c:barChart>
      <c:catAx>
        <c:axId val="35930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93008"/>
        <c:crosses val="autoZero"/>
        <c:auto val="1"/>
        <c:lblAlgn val="ctr"/>
        <c:lblOffset val="100"/>
        <c:noMultiLvlLbl val="0"/>
      </c:catAx>
      <c:valAx>
        <c:axId val="55093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30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6BE-67A4-4F14-A905-380AF90E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B08-32BA-4701-9DF2-7B0CC197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9B3-5A6A-4E58-BB53-663FE7DE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AC7-9A4C-4A5B-91F6-790D3844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BF7-1BA7-443F-810E-C14FBF22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98F-010F-44F6-968E-BB0777D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E3B-112B-4B66-B849-026B4002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BC9-BCE4-4871-8C7A-FEF542BA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ACB-B36A-46A4-8A3E-4F8F352C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97C-7822-42A3-B9B0-EF3A6D9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8E5-C1F9-46E6-BDA9-D57BC50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877-302C-4A37-9F5A-CF009C5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D7113-3DCD-4F75-9B5B-33A9CF49C3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